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7786-2111-42D8-801A-A573B915A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C93F-ABB5-4829-9D4D-479AA6E07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D393-EE6C-474B-825E-C18A1B697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79A7-3F44-4E90-A926-435625ADD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5263-9451-4E9D-83BF-5EC84FB37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DF21-8BE5-42EB-A8C1-FC11812BC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A80C-8293-48CD-AB53-F29BDC01D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557D-2BD0-45A3-ACA2-45F345FB6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BFEB-58DF-4919-88D8-347F52706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A511-2EDC-41CC-9664-C1C51B73C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EDB7-0C42-4BBE-8402-7C6EA817C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5464-6889-4E23-8A6D-28C4040F2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6F3EC-08C2-4588-9A49-86D7D3F554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s.wikipedia.org/wiki/Imagen:Dahlneal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es/imgres?imgurl=http://www.tdc.govt.nz/libraries/pics/xsdwhkirvz5ptcg2nksjya522pidff48eki.jpg&amp;imgrefurl=http://www.tdc.govt.nz/libraries/index.php%3FMurchisonLibraryPresentsRoaldDahlDay&amp;h=175&amp;w=200&amp;sz=11&amp;hl=es&amp;start=4&amp;tbnid=xWI8SGMh5XB-eM:&amp;tbnh=91&amp;tbnw=104&amp;prev=/images%3Fq%3Droald%2Bdalh%26gbv%3D2%26hl%3Des%26sa%3DG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google.es/imgres?imgurl=http://dreamers.com/indices/imagenes/libros.254.IMAGEN1.jpg&amp;imgrefurl=http://dreamers.com/indices/foros.cgi%3Findice%3Dlibros/254%26mostrarforo&amp;h=300&amp;w=200&amp;sz=30&amp;hl=es&amp;start=5&amp;tbnid=xlJBXgY3iGQIXM:&amp;tbnh=116&amp;tbnw=77&amp;prev=/images%3Fq%3Droald%2Bdalh%26gbv%3D2%26hl%3Des%26sa%3DG" TargetMode="External"/><Relationship Id="rId5" Type="http://schemas.openxmlformats.org/officeDocument/2006/relationships/image" Target="../media/image5.jpeg"/><Relationship Id="rId6" Type="http://schemas.openxmlformats.org/officeDocument/2006/relationships/hyperlink" Target="http://images.google.es/imgres?imgurl=http://www.librarything.com/authorpics/dahlroald1598.jpg&amp;imgrefurl=http://www.librarything.com/author/dahlroald&amp;h=200&amp;w=143&amp;sz=25&amp;hl=es&amp;start=8&amp;tbnid=2Iver3aNrljf8M:&amp;tbnh=104&amp;tbnw=74&amp;prev=/images%3Fq%3Droald%2Bdalh%26gbv%3D2%26hl%3Des%26sa%3DG" TargetMode="External"/><Relationship Id="rId7" Type="http://schemas.openxmlformats.org/officeDocument/2006/relationships/image" Target="../media/image6.jpeg"/><Relationship Id="rId8" Type="http://schemas.openxmlformats.org/officeDocument/2006/relationships/hyperlink" Target="http://sepiensa.org.mx/contenidos/2005/n_asecensordecristal/images/ascensorcristal_06.gif" TargetMode="External"/><Relationship Id="rId9" Type="http://schemas.openxmlformats.org/officeDocument/2006/relationships/image" Target="../media/image7.jpeg"/><Relationship Id="rId10" Type="http://schemas.openxmlformats.org/officeDocument/2006/relationships/image" Target="../media/image8.jpeg"/><Relationship Id="rId11" Type="http://schemas.openxmlformats.org/officeDocument/2006/relationships/image" Target="../media/image9.jpe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16000" y="2421000"/>
            <a:ext cx="6769080" cy="185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ff"/>
                  </a:solidFill>
                  <a:miter/>
                </a:ln>
                <a:solidFill>
                  <a:srgbClr val="00ccff"/>
                </a:solidFill>
                <a:latin typeface="Georgia"/>
              </a:rPr>
              <a:t>Roald Dahl</a:t>
            </a:r>
            <a:endParaRPr b="0" lang="en-US" sz="1800" spc="1" strike="noStrike">
              <a:ln w="38160">
                <a:solidFill>
                  <a:srgbClr val="0000ff"/>
                </a:solidFill>
                <a:miter/>
              </a:ln>
              <a:solidFill>
                <a:srgbClr val="00ccff"/>
              </a:solidFill>
              <a:latin typeface="Georgia"/>
              <a:ea typeface="Georgia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84360" y="404640"/>
            <a:ext cx="2009520" cy="1845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700360" y="404640"/>
            <a:ext cx="1295280" cy="648000"/>
          </a:xfrm>
          <a:prstGeom prst="wedgeRoundRectCallout">
            <a:avLst>
              <a:gd name="adj1" fmla="val -112254"/>
              <a:gd name="adj2" fmla="val 45342"/>
              <a:gd name="adj3" fmla="val 16667"/>
            </a:avLst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choco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500720" y="4653000"/>
            <a:ext cx="2009520" cy="18446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227640" y="4437000"/>
            <a:ext cx="1584360" cy="720720"/>
          </a:xfrm>
          <a:prstGeom prst="wedgeRoundRectCallout">
            <a:avLst>
              <a:gd name="adj1" fmla="val -85870"/>
              <a:gd name="adj2" fmla="val 70046"/>
              <a:gd name="adj3" fmla="val 16667"/>
            </a:avLst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choco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8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8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8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8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1979640" y="476280"/>
            <a:ext cx="4751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ff"/>
                  </a:solidFill>
                  <a:miter/>
                </a:ln>
                <a:solidFill>
                  <a:srgbClr val="00ccff"/>
                </a:solidFill>
                <a:latin typeface="Georgia"/>
              </a:rPr>
              <a:t>Biography:</a:t>
            </a:r>
            <a:endParaRPr b="0" lang="en-US" sz="1800" spc="1" strike="noStrike">
              <a:ln w="38160">
                <a:solidFill>
                  <a:srgbClr val="0000ff"/>
                </a:solidFill>
                <a:miter/>
              </a:ln>
              <a:solidFill>
                <a:srgbClr val="00ccff"/>
              </a:solidFill>
              <a:latin typeface="Georgia"/>
              <a:ea typeface="Georgia"/>
            </a:endParaRPr>
          </a:p>
        </p:txBody>
      </p:sp>
      <p:sp>
        <p:nvSpPr>
          <p:cNvPr id="47" name=""/>
          <p:cNvSpPr/>
          <p:nvPr/>
        </p:nvSpPr>
        <p:spPr>
          <a:xfrm>
            <a:off x="1619280" y="1413000"/>
            <a:ext cx="216000" cy="215640"/>
          </a:xfrm>
          <a:prstGeom prst="ellipse">
            <a:avLst/>
          </a:prstGeom>
          <a:solidFill>
            <a:srgbClr val="00ccff"/>
          </a:solidFill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476360" y="1916280"/>
            <a:ext cx="216000" cy="217440"/>
          </a:xfrm>
          <a:prstGeom prst="ellipse">
            <a:avLst/>
          </a:prstGeom>
          <a:solidFill>
            <a:srgbClr val="00ccff"/>
          </a:solidFill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47640" y="2276640"/>
            <a:ext cx="289080" cy="215640"/>
          </a:xfrm>
          <a:prstGeom prst="ellipse">
            <a:avLst/>
          </a:prstGeom>
          <a:solidFill>
            <a:srgbClr val="00ccff"/>
          </a:solidFill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16360" y="2997360"/>
            <a:ext cx="215640" cy="215640"/>
          </a:xfrm>
          <a:prstGeom prst="ellipse">
            <a:avLst/>
          </a:prstGeom>
          <a:solidFill>
            <a:srgbClr val="00ccff"/>
          </a:solidFill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11280" y="4005360"/>
            <a:ext cx="289080" cy="288720"/>
          </a:xfrm>
          <a:prstGeom prst="ellipse">
            <a:avLst/>
          </a:prstGeom>
          <a:solidFill>
            <a:srgbClr val="00ccff"/>
          </a:solidFill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19280" y="4724280"/>
            <a:ext cx="216000" cy="289080"/>
          </a:xfrm>
          <a:prstGeom prst="ellipse">
            <a:avLst/>
          </a:prstGeom>
          <a:solidFill>
            <a:srgbClr val="00ccff"/>
          </a:solidFill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71600" y="1413000"/>
            <a:ext cx="6400800" cy="42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Arial"/>
              </a:rPr>
              <a:t>He was born  13th of september in  19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Arial"/>
              </a:rPr>
              <a:t>He began to write in19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Arial"/>
              </a:rPr>
              <a:t>He married Patricia L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Arial"/>
              </a:rPr>
              <a:t>He died of leukaemia on 23 th November, 19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Roald Dahl y Patricia Neal, fotografiados por Carl van Vechten, 20 de abril de 1954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659640" y="2781360"/>
            <a:ext cx="1225440" cy="1727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 flipV="1">
            <a:off x="6300720" y="3715920"/>
            <a:ext cx="35892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1547640" y="549360"/>
            <a:ext cx="6048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ff"/>
                  </a:solidFill>
                  <a:miter/>
                </a:ln>
                <a:solidFill>
                  <a:srgbClr val="00ccff"/>
                </a:solidFill>
                <a:latin typeface="Georgia"/>
              </a:rPr>
              <a:t>Important Works</a:t>
            </a:r>
            <a:endParaRPr b="0" lang="en-US" sz="1800" spc="1" strike="noStrike">
              <a:ln w="38160">
                <a:solidFill>
                  <a:srgbClr val="0000ff"/>
                </a:solidFill>
                <a:miter/>
              </a:ln>
              <a:solidFill>
                <a:srgbClr val="00ccff"/>
              </a:solidFill>
              <a:latin typeface="Georgia"/>
              <a:ea typeface="Georgia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1916280"/>
            <a:ext cx="358920" cy="360360"/>
          </a:xfrm>
          <a:prstGeom prst="ellipse">
            <a:avLst/>
          </a:prstGeom>
          <a:solidFill>
            <a:srgbClr val="00ccff"/>
          </a:solidFill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258920" y="2852640"/>
            <a:ext cx="360360" cy="360360"/>
          </a:xfrm>
          <a:prstGeom prst="ellipse">
            <a:avLst/>
          </a:prstGeom>
          <a:solidFill>
            <a:srgbClr val="00ccff"/>
          </a:solidFill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08000" y="3645000"/>
            <a:ext cx="358920" cy="287280"/>
          </a:xfrm>
          <a:prstGeom prst="ellipse">
            <a:avLst/>
          </a:prstGeom>
          <a:solidFill>
            <a:srgbClr val="00ccff"/>
          </a:solidFill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42920" y="4581360"/>
            <a:ext cx="432000" cy="360360"/>
          </a:xfrm>
          <a:prstGeom prst="ellipse">
            <a:avLst/>
          </a:prstGeom>
          <a:solidFill>
            <a:srgbClr val="00ccff"/>
          </a:solidFill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71640" y="5589720"/>
            <a:ext cx="360360" cy="360360"/>
          </a:xfrm>
          <a:prstGeom prst="ellipse">
            <a:avLst/>
          </a:prstGeom>
          <a:solidFill>
            <a:srgbClr val="00ccff"/>
          </a:solidFill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03280" y="1628640"/>
            <a:ext cx="715032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ff"/>
                </a:solidFill>
                <a:latin typeface="Arial"/>
              </a:rPr>
              <a:t>The Fantastic Mr. Fox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47640" y="1916280"/>
            <a:ext cx="63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ff"/>
                </a:solidFill>
                <a:latin typeface="Arial"/>
              </a:rPr>
              <a:t>Charlie and the Chocolate Factory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692360" y="285264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ff"/>
                </a:solidFill>
                <a:latin typeface="Arial"/>
              </a:rPr>
              <a:t>Matil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6704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10160" y="453600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ff"/>
                </a:solidFill>
                <a:latin typeface="Arial"/>
              </a:rPr>
              <a:t>The 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08000" y="5544000"/>
            <a:ext cx="51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ff"/>
                </a:solidFill>
                <a:latin typeface="Arial"/>
              </a:rPr>
              <a:t>James and the Giant P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755640" y="620640"/>
            <a:ext cx="7129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ff"/>
                  </a:solidFill>
                  <a:miter/>
                </a:ln>
                <a:solidFill>
                  <a:srgbClr val="00ccff"/>
                </a:solidFill>
                <a:latin typeface="Georgia"/>
              </a:rPr>
              <a:t>Photos</a:t>
            </a:r>
            <a:endParaRPr b="0" lang="en-US" sz="1800" spc="1" strike="noStrike">
              <a:ln w="38160">
                <a:solidFill>
                  <a:srgbClr val="0000ff"/>
                </a:solidFill>
                <a:miter/>
              </a:ln>
              <a:solidFill>
                <a:srgbClr val="00ccff"/>
              </a:solidFill>
              <a:latin typeface="Georgia"/>
              <a:ea typeface="Georgia"/>
            </a:endParaRPr>
          </a:p>
        </p:txBody>
      </p:sp>
      <p:pic>
        <p:nvPicPr>
          <p:cNvPr id="6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 rot="20210400">
            <a:off x="899640" y="2276280"/>
            <a:ext cx="1584360" cy="1215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 rot="20616600">
            <a:off x="7308360" y="1412640"/>
            <a:ext cx="1195560" cy="1800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284720" y="4797360"/>
            <a:ext cx="1366920" cy="16574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 rot="19456800">
            <a:off x="1512360" y="4593960"/>
            <a:ext cx="1527480" cy="15080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0"/>
          <a:stretch/>
        </p:blipFill>
        <p:spPr>
          <a:xfrm rot="2431800">
            <a:off x="6588000" y="4653000"/>
            <a:ext cx="1781280" cy="17143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1"/>
          <a:stretch/>
        </p:blipFill>
        <p:spPr>
          <a:xfrm>
            <a:off x="2916360" y="1557360"/>
            <a:ext cx="333360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900000" y="2205000"/>
            <a:ext cx="712800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ff"/>
                  </a:solidFill>
                  <a:miter/>
                </a:ln>
                <a:solidFill>
                  <a:srgbClr val="00ccff"/>
                </a:solidFill>
                <a:latin typeface="Arial Black"/>
              </a:rPr>
              <a:t>By: Débora del Reino</a:t>
            </a:r>
            <a:endParaRPr b="0" lang="en-US" sz="1800" spc="1" strike="noStrike">
              <a:ln w="38160">
                <a:solidFill>
                  <a:srgbClr val="0000ff"/>
                </a:solidFill>
                <a:miter/>
              </a:ln>
              <a:solidFill>
                <a:srgbClr val="00ccff"/>
              </a:solidFill>
              <a:latin typeface="Arial Black"/>
              <a:ea typeface="Arial Black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 rot="19919400">
            <a:off x="1258920" y="549000"/>
            <a:ext cx="1368360" cy="15192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 rot="20967000">
            <a:off x="4716000" y="4581000"/>
            <a:ext cx="173376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08:00:52Z</dcterms:created>
  <dc:creator>Alumno47</dc:creator>
  <dc:description/>
  <dc:language>en-US</dc:language>
  <cp:lastModifiedBy>Los Tilos</cp:lastModifiedBy>
  <dcterms:modified xsi:type="dcterms:W3CDTF">2008-06-10T11:27:08Z</dcterms:modified>
  <cp:revision>6</cp:revision>
  <dc:subject/>
  <dc:title>Diapositiva 1</dc:title>
</cp:coreProperties>
</file>